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3FC-10FA-4C17-8E1B-2CDE96DA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8DC-05AE-431B-9436-E477E32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0D4-FCF4-4BBF-894B-F3F21955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988-863C-4A49-A797-185BFF0F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C2A-2D06-4922-AED4-08C51601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704-494D-4E9C-848B-C45371B4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6C3-024A-4D03-9C5E-70B75EC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4E3-4896-4870-925B-D6C43257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A9C-761A-48F8-8B9B-585C2EFE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0AE-F19A-41B9-9C76-D2F88DA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E57-52BD-4610-9163-5D8F73D9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AD6-5A32-48AD-B5FC-C18825A4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A29C-D424-4E7F-B9B8-8C6D5106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2666880"/>
            <a:ext cx="2286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hild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2743200"/>
            <a:ext cx="1447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676520"/>
            <a:ext cx="1752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rehensive I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666520" y="22093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657600"/>
            <a:ext cx="15242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90920" y="36576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657600"/>
            <a:ext cx="12956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hievement T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657600"/>
            <a:ext cx="14475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udent Achie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572000"/>
            <a:ext cx="9907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4495680"/>
            <a:ext cx="1447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486400" y="29718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371600"/>
            <a:ext cx="16765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equate Yearly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724280" y="19810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1905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00800" y="3276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213372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8862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391520" y="2514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391160" y="3200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01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1800" y="5935680"/>
            <a:ext cx="73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4100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ques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w significant is accountability in the No Child Left Behind Pro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phras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no child left behind AND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18:47Z</dcterms:created>
  <dc:creator> Robert B. Niedbala</dc:creator>
  <dc:description/>
  <dc:language>en-US</dc:language>
  <cp:lastModifiedBy> Robert B. Niedbala</cp:lastModifiedBy>
  <dcterms:modified xsi:type="dcterms:W3CDTF">2008-11-11T23:28:20Z</dcterms:modified>
  <cp:revision>18</cp:revision>
  <dc:subject/>
  <dc:title>Slide 1</dc:title>
</cp:coreProperties>
</file>